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Stra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in’s Critique of Davis and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Know Positions Most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cation Should = Merit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ught to Benefit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ca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ciety Can Exist Unless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Means Inequalities of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Nature is Self-C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Explanation is Ideology of the E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onsciousness Will Overcome Blinding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pplications of 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ki’s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ology vs.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nformation and Us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Elites Maintain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Former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Soci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orld—Industrialized Capital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orld—Commun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orld—Nations that Don’t Fit  in First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(Old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Rich, Non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System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World’s Nations Become Stra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y of relative privilege based on power, property, and presti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Global Do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Glob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in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’s Religious 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Racial 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 and Status of Fe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l Marx: The Means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eber: Property, Prestige,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nt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ust Make Sure all Positions are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sitions are More Important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tivate Qualified People, They Must Be Re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ortant Positions Filled by More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045B-D31A-439F-8529-295B97572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A1CD-00D5-4293-A19A-B7E6D6387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A659-76FE-428C-BAC1-231A1B6A6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AF9B-C9B9-4E4E-BC75-B4AD2DFA2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6DDE2-29C2-4F79-A3E5-5CC64D03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D7520-CE3B-4EAC-8106-A7012D01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61623-952E-4DC8-B2E6-20BA9578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D82FE-2C97-46DB-9C78-58114F4C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7B0D1-789F-4846-A560-62D1216F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EBF88-5CDD-4007-A4FC-BA1D8ACE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E728E-BAA7-4650-B865-836D3E9B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4B7F-BDE1-4E4E-8862-6602D8046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AFF54-03C9-4FDE-9AFE-13939C76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14431-8755-489E-8BAD-1C6698B7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04812-CE09-472C-9968-BE440549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B6A63-288F-431E-BE59-6A3658EF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B5D2F-9F63-4BA5-A807-E786BA7B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E47D-3F04-4219-BD04-91CB87B75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5163B-AF2F-479E-80F8-F42457CB0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A90B-65A4-43E7-8584-F7A2C12A9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4402-069F-4C4B-A6B0-388250830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F0136-F47D-4460-BBCD-3DE3632AB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33AC-139C-43F2-B15D-EA8C0602B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FC09-E5C9-44D1-978E-65125E805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0990-6873-40F1-9CBD-C27C330078D5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9: Global Stratific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28FF-2E8A-49A4-90EB-A0B670933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28960"/>
            <a:ext cx="480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Nin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lobal Stratific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10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umin’s Critique of Davis and Mo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do We Know Positions Most Important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tification Should = Merit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Ought to Benefit Everyo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ca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ociety Can Exist Unless Organiz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Means Inequalities of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 Nature is Self-Cente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333360"/>
            <a:ext cx="807732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1337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 Explanation is Ideology of the Eli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 Consciousness Will Overcome Blinding Ide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Applications of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nski’s Synthe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790560"/>
            <a:ext cx="784872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ology vs. F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de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nformation and Using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714240"/>
            <a:ext cx="777240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Elites Maintain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Great Brita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Former Soviet Un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762120"/>
            <a:ext cx="7086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arative Soci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orld—Industrialized Capital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orld—Commun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orld—Nations that Don’t Fit  in First Tw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762120"/>
            <a:ext cx="6782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Old Model)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762120"/>
            <a:ext cx="6705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il-Rich, Non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3049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ying the Mod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ld System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valuating the Theo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714240"/>
            <a:ext cx="79250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id World’s Nations Become Stratified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hierarchy of relative privilege based on power, property, and prestige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1447920"/>
            <a:ext cx="648324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Social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o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national Corpor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Global Do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7621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aintaining Glob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Henslin final"/>
          <p:cNvPicPr/>
          <p:nvPr/>
        </p:nvPicPr>
        <p:blipFill>
          <a:blip r:embed="rId1"/>
          <a:stretch/>
        </p:blipFill>
        <p:spPr>
          <a:xfrm>
            <a:off x="24382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in the New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Slaver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a’s Religious Cas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uth Afric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.S. Racial Cast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23880"/>
            <a:ext cx="784872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Cast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st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Stratification and Status of Fema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62120"/>
            <a:ext cx="7010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Oth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: The Means of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x Weber: Property, Prestige,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263600"/>
            <a:ext cx="80010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ants of Social Clas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4" name="Picture 5" descr="C:\PowerPoint Work\Allyn &amp; Bacon\2005 Work\Henslin 8ed\Artwork\09-01.jpg"/>
          <p:cNvPicPr/>
          <p:nvPr/>
        </p:nvPicPr>
        <p:blipFill>
          <a:blip r:embed="rId1"/>
          <a:srcRect l="0" t="0" r="0" b="17076"/>
          <a:stretch/>
        </p:blipFill>
        <p:spPr>
          <a:xfrm>
            <a:off x="3352680" y="152280"/>
            <a:ext cx="24544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vis and Moore’s Expla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Must Make Sure all Positions are Fill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Positions are More Important than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 Motivate Qualified People, They Must Be Rewar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6680" y="2057400"/>
            <a:ext cx="63248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avis and Moore’s Explanatio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 Important Positions Filled by More Qualified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22:36Z</dcterms:modified>
  <cp:revision>183</cp:revision>
  <dc:subject>Chapter 9: Global Stratification</dc:subject>
  <dc:title>Sociology: A Down-to-Earth Approach, 8/e</dc:title>
</cp:coreProperties>
</file>